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6F5-688D-498B-970A-4FE7F36B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829-B0F1-4D79-B352-D9C1D159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016-F6E2-4871-9BE2-EAE750E4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372-5AD3-4704-B9E8-C24BB629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56E-8EF9-49B7-9CAB-B0CFF0B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898-09A9-4D95-94D7-8F84D7A7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861-5DB9-47D1-B7A8-8F7DFD64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074-5753-4431-89CB-29A64E63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3B0-2299-4786-92C7-A3756215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A76-DB4D-4C6D-98A0-411D5C2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448-EE67-4860-8545-D5D55B6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7A4-6FE6-4B2C-991A-4B75491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A9E-D712-4929-A994-CAB1286F199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4 Deň v službe Spas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požehnaný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si ju cení a sám od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sláve príde ra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,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ďačný sluh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ť radostnú zv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spasení nies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výzva Božia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službu sám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žehná nebies Pán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skúškou vernosti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príklad sám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yna poslal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ám na svet z mil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verný je a verný zo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iv Božej lásky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slúžiť verne a neochvej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láska z neba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u aj náš Pán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verne slúži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02:10Z</dcterms:modified>
  <cp:revision>48</cp:revision>
  <dc:subject/>
  <dc:title>Je veľký náš Pán, on slávy je Kráľ Nech do všetkých strán  spev vrúcnych znie chvál.</dc:title>
</cp:coreProperties>
</file>